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A8C-3589-4778-A5B3-63166C4F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DAC-23D8-4F04-A265-02B6AE66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4B3-41D3-4CA4-88F0-7B9F67D4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7F9-20B6-43C3-9743-459CCA8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074-E682-4427-B5F5-63F36C67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48E-7A0C-4370-BFA6-BF344565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1D02-7640-4B67-BA88-F70E3E0B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E6A-9B19-41FB-B885-16ADCE9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A52D-5B08-4FE8-A2B6-808D8F7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726C-99BE-475E-B9FB-A252E72C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0E6D-60ED-490A-AEA5-79CED68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6A1-5F08-4049-8B27-EC71DE4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A334-D7A7-4AE4-9256-998C27A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E84E-80A0-4CEF-AB3C-D1A6DD7B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5466-9452-463B-874E-6A0D5E3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F236-821D-40CF-992C-D04EFDC1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C6A3-BDA5-47AF-9602-ED10D152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92D-DFD9-4230-8878-3F0853F6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D76-7BF5-449D-95B7-5C858F66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77C3-939F-4C2C-A8DF-398629B9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769-D67E-497C-990C-98CB3A44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9873-8F9F-447A-8750-B6B7179B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553-0228-47FF-A09E-AC72FE8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DE8-9EDF-4363-802D-CEF03B7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8908-AF7B-4249-94BC-1FC92CB549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246-2292-431B-B6A7-5F6AAC3CB9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image" Target="../media/image3.pct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3.pct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2.xm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image" Target="../media/image3.pct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195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7320" y="2955960"/>
            <a:ext cx="52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¡Bienvenido A Riesgo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733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fitrión por: Brett Chap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783480"/>
            <a:ext cx="74520" cy="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75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spor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Basketba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ootbal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Ska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owl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clothing lin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Hollis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American Eag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Infam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é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Cou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zzuré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future job do I want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e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Entrepreneu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rb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chit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ich invention do I wish to make in the futur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agnetic Electrical Out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iJa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iRobo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Virtual Reality Ga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do I want to live in the futur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New York C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Yead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Paris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Myrtle Beac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ere is my chilling plac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Libra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Caf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allro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Everywhe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do I eat for lunch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urmet Me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m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PB &amp; J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h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ich class do I have on Mondays at 8:15 A.M.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Engl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Free Peri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Bio-Che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09680" y="2743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ff22"/>
                </a:solidFill>
                <a:latin typeface="Arial"/>
              </a:rPr>
              <a:t>Correct </a:t>
            </a:r>
            <a:r>
              <a:rPr b="0" lang="en-US" sz="9600" spc="-1" strike="noStrike">
                <a:solidFill>
                  <a:srgbClr val="15ff22"/>
                </a:solidFill>
                <a:latin typeface="Monotype Sorts"/>
                <a:ea typeface="Monotype Sorts"/>
              </a:rPr>
              <a:t>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320560" y="2590920"/>
            <a:ext cx="500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1e12"/>
                </a:solidFill>
                <a:latin typeface="Arial"/>
              </a:rPr>
              <a:t>Incorrect </a:t>
            </a:r>
            <a:r>
              <a:rPr b="0" lang="en-US" sz="9600" spc="-1" strike="noStrike">
                <a:solidFill>
                  <a:srgbClr val="ff1e12"/>
                </a:solidFill>
                <a:latin typeface="Monotype Sorts"/>
                <a:ea typeface="Monotype Sorts"/>
              </a:rPr>
              <a:t>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50080" y="22860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2240" y="22860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amigos y ami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3044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avo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4000" y="38098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vida en escu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80988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 futuro sue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05680" y="4572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t 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380880"/>
            <a:ext cx="3668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</a:t>
            </a:r>
            <a:endParaRPr b="0" lang="en-US" sz="4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m I named afte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380988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D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Cous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any cousins do I hav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3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None of the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bo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’s my niece’s nam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Laki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Kail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Elizabe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Morg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many friends do I have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Too many to coun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re my best male friend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John and Rober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Kitab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nd Vi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Anwar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and Lam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Bubbleman 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8" action="ppaction://hlinksldjump"/>
              </a:rPr>
              <a:t>and 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o are my best female friend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Makayl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Dominq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man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Dej</a:t>
            </a: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á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All of the Abo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648320" y="3054240"/>
            <a:ext cx="3809880" cy="257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my favorite ca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inite G37 Cou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Nissan 350z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on T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W Bett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8320" y="29145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6:38:04Z</dcterms:created>
  <dc:creator>School District of Philadelphia</dc:creator>
  <dc:description/>
  <dc:language>en-US</dc:language>
  <cp:lastModifiedBy>School District of Philadelphia</cp:lastModifiedBy>
  <dcterms:modified xsi:type="dcterms:W3CDTF">2007-12-18T16:48:11Z</dcterms:modified>
  <cp:revision>7</cp:revision>
  <dc:subject/>
  <dc:title> </dc:title>
</cp:coreProperties>
</file>